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8E1-48BA-4549-A302-518CC141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3CF-5872-4056-88FC-7896C363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093-3EF6-4912-8B96-3EB73734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B8A-0C3E-4981-9491-2CC4F52E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896-3733-47BC-8765-AC6604B9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4D4-1011-42F0-AE0D-F3D84D07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94F-B4C2-46FE-85DB-14EA951E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323-D115-4A28-A1E9-E6A0C765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381-8A92-41C7-92FF-13C90C7F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59D-61AB-437D-9D81-A4B6EAA1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19D-7C41-40F9-9B03-11947B0A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E5B-4397-4BC0-9567-A5DCC8A5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8C58-5B11-4CE3-9211-E0E5E40042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sons from TK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ong theme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Kill A Mockingbi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bout how we learn to understand and respect others, no matter what back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out the novel, the children, mostly Scout, receive a moral education about this the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sons from Calpurn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should treat their company with resp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do not all have the same opportunities, possessions, etc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eople should be treated the same and with resp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sons from Attic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should not be judged by their parents or fami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nnot be held responsible if they do not know be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nnot be expected to know every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sons from Attic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amily name does not determine who you are as a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eople do is their own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n better understand others if they consider their point of vi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int of 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never really understand a person until you consider things from his point of view . . . until you climb into his skin and walk around in it.” –Atti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iterature: Different Ki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al life: Perspective of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V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f 1-3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 shoe (two groups may use same one if desi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character based upon the sho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hand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real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, have fun with your creativit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be wait to name until l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: Activity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ten para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k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3:33:08Z</dcterms:created>
  <dc:creator>USD497</dc:creator>
  <dc:description/>
  <dc:language>en-US</dc:language>
  <cp:lastModifiedBy>Jacob Larson FSHS</cp:lastModifiedBy>
  <dcterms:modified xsi:type="dcterms:W3CDTF">2012-04-25T17:42:55Z</dcterms:modified>
  <cp:revision>12</cp:revision>
  <dc:subject/>
  <dc:title>Lessons from TKAM, ch. 4-6</dc:title>
</cp:coreProperties>
</file>